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F769-4ABA-4F24-9996-6DBE59C74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C3AA-34C5-4CC8-B584-208DADD8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EEE3-4F04-4D44-B10E-FED25DB46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8DC1-23FA-45C1-9A2A-8E9A43C8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B526-B435-4D61-BF18-E53255163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E18F-68E3-4370-A4D8-38B20778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0E49-D1E7-4B04-84CC-B1F3102D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7F7A-B3C6-4EF7-BA2D-2AC545B3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9CC5-9749-4779-AFC1-A17516D4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4F26-9A7C-4F3B-8CFF-BA53B5E6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958F-816F-48EA-9DCE-FA6A79C7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485E-C17A-4BE1-A28B-C3AA1BEB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9A5D-BD0A-4FB9-9D73-AC9B48E8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BA51-4558-4BFD-AFE4-4D6F1D9A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0FE0-C458-4ABD-8A06-B7F4D5A9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3BD0-B42E-4FC4-813D-7A3F5322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AA1F-716C-489A-83DF-441890F0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E228-415C-4123-B0C9-2EF97D65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CAEF-1DD9-4706-86E6-C004AC51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41D6-9BD3-40A7-B695-2DEA8F62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EBB3-A182-4ACE-81A5-6818FF09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DC22-4B7C-4CBE-BC1B-B1D3A25D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1A12-FEFC-4FFB-83CE-13F59162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CF1E-4EFA-4A16-A7E0-0580411F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486D-576D-4483-BA64-C2AF608BD27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9A80-3BF0-4D2D-98A3-81D7A700C55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057400"/>
            <a:ext cx="5105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  <a:cs typeface="????Boutros Rokaa"/>
              </a:rPr>
              <a:t>حتّى متى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48320" y="1905120"/>
            <a:ext cx="449568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تّى متى سأظلّ واقفا أسير في مكاني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5257800"/>
            <a:ext cx="91440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</a:rPr>
              <a:t>حتّى متى سأبقى هكذا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675320"/>
            <a:ext cx="9144000" cy="427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طفلا في ايماني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48320" y="1905120"/>
            <a:ext cx="449568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م من مرّة نويت و لم أفعل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3880"/>
            <a:ext cx="5105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  <a:cs typeface="????Boutros Rokaa"/>
              </a:rPr>
              <a:t>كم من مرّة وعدت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  <a:ea typeface="????Boutros Rokaa"/>
              </a:rPr>
              <a:t> و لم أفي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48320" y="1905120"/>
            <a:ext cx="449568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 أعود,  أعود اليك فأراك لم تغفل, تحنو عليّ تماما مثل الأب (</a:t>
            </a:r>
            <a:r>
              <a:rPr b="1" lang="ar-SA" sz="6800" spc="-1" strike="noStrike">
                <a:solidFill>
                  <a:srgbClr val="ffffff"/>
                </a:solidFill>
                <a:latin typeface="Times New Roman"/>
                <a:ea typeface="Akhbar MT"/>
              </a:rPr>
              <a:t>3</a:t>
            </a:r>
            <a:r>
              <a:rPr b="1" lang="ar-SA" sz="6800" spc="-1" strike="noStrike">
                <a:solidFill>
                  <a:srgbClr val="ffffff"/>
                </a:solidFill>
                <a:latin typeface="Times New Roman"/>
                <a:ea typeface="Akhbar MT"/>
              </a:rPr>
              <a:t>)  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48320" y="1905120"/>
            <a:ext cx="449568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تّى متى سأظلّ واقفا أسير في مكاني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5257800"/>
            <a:ext cx="91440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</a:rPr>
              <a:t>حتّى متى سأبقى هكذا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675320"/>
            <a:ext cx="9144000" cy="427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طفلا في ايماني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648320" y="1905120"/>
            <a:ext cx="449568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م من مرّة نويت و لم أفعل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523880"/>
            <a:ext cx="5105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  <a:cs typeface="????Boutros Rokaa"/>
              </a:rPr>
              <a:t>كم من مرّة وعدت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  <a:ea typeface="????Boutros Rokaa"/>
              </a:rPr>
              <a:t> و لم أفي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648320" y="1905120"/>
            <a:ext cx="449568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 أعود,  أعود اليك فأراك لم تغفل, تحنو عليّ تماما مثل الأب (</a:t>
            </a:r>
            <a:r>
              <a:rPr b="1" lang="ar-SA" sz="6800" spc="-1" strike="noStrike">
                <a:solidFill>
                  <a:srgbClr val="ffffff"/>
                </a:solidFill>
                <a:latin typeface="Times New Roman"/>
                <a:ea typeface="Akhbar MT"/>
              </a:rPr>
              <a:t>2</a:t>
            </a:r>
            <a:r>
              <a:rPr b="1" lang="ar-SA" sz="6800" spc="-1" strike="noStrike">
                <a:solidFill>
                  <a:srgbClr val="ffffff"/>
                </a:solidFill>
                <a:latin typeface="Times New Roman"/>
                <a:ea typeface="Akhbar MT"/>
              </a:rPr>
              <a:t>)  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981080"/>
            <a:ext cx="601992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ريد أن أدخل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ea typeface="Akhbar MT"/>
              </a:rPr>
              <a:t> الى أعماقك فأسبح نهر حبّك  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1828800"/>
            <a:ext cx="449568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ريد أن أسكن بقرب قلبك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92" name=""/>
          <p:cNvSpPr/>
          <p:nvPr/>
        </p:nvSpPr>
        <p:spPr>
          <a:xfrm>
            <a:off x="0" y="1981080"/>
            <a:ext cx="579132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أنفق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ea typeface="Akhbar MT"/>
              </a:rPr>
              <a:t> العمر لك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6:11Z</dcterms:created>
  <dc:creator>Charbel Azar</dc:creator>
  <dc:description/>
  <dc:language>en-US</dc:language>
  <cp:lastModifiedBy>Personal</cp:lastModifiedBy>
  <dcterms:modified xsi:type="dcterms:W3CDTF">2008-04-26T08:06:01Z</dcterms:modified>
  <cp:revision>9</cp:revision>
  <dc:subject/>
  <dc:title>PowerPoint Presentation</dc:title>
</cp:coreProperties>
</file>